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review the DI cards –sample questions and sampl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write some of these for use with Primary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we do not separate content feedback and process feedback, we are doing it here to focus your attention specifically on the difference between the two forms of descrip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nd talk to your elbow partner about any processes you are not very clear ab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ctions are they meant to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8B02-1D5F-495A-BDC1-38687D968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758D-3C6A-4993-A966-EE6D63FB4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CD08-8F7E-4084-B016-FE32FB4D2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7A39-22C2-4FE6-A55B-97EAFC0F8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25094-8279-44BA-8A88-245CB99BCD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D939-671F-4925-9908-686D18432E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C213-1104-458E-80DD-1631686964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305F-62F6-4B4F-8930-DE74528BF7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1F41-B0EB-44D5-90F5-08E44389FB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00AB-C890-46AC-87D3-5C27D9DA9D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262D-1D74-4029-89C9-E169905EE1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CF8A-44DC-4D78-93A0-63E2A6C8D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4338-34A2-4F08-90A4-B4214A20D5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AFE2-C535-4999-9948-8A72944186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6A51-B573-435E-8B7D-FCDF9E7292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9C68-BE0E-49AC-8720-D617BEC50E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EE8F-62BB-4FF8-9305-304CDB6A9B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5CD1-4817-44A9-B650-34BFE67C9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469B-60EF-4977-A723-7C591C5B9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19EC-F90D-44BB-8790-66345A892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D971-63DB-4CF7-8255-FE98B8617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3587-1D12-4973-9257-B94F1FC8D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44E0-412E-42BB-8176-08B37137D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5048-D112-494E-9A82-453597E86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995A-BEE9-4D9E-9279-AE913F2178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8AEB-05DF-4BFA-8639-601D5A21E8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7543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6AC9-A1EB-44E0-BB3E-ADA6FEAFBE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3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8000"/>
                </a:solidFill>
                <a:latin typeface="Arial"/>
              </a:rPr>
              <a:t>Responding to Student Mathematical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riting 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ELLOW post-it notes to write descriptive feedback to the student about the process of representing and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your notes on the posted student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D36B-9657-4A9E-BF37-C1D3CC6995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process card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has one card to describe each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sample questions and sample prompts for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and talk at your table about your  reactions to these – how effective would they be with 7 year ol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nother few processes and read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751E-3948-42DB-8879-DC75968E8E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4D7-E3F9-4274-81C2-4B0B66B261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 rot="19137600">
            <a:off x="2597760" y="3225600"/>
            <a:ext cx="4419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3:00 partn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 cards and Tongue depress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presenting and one more 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tudent samples that you did not comment on before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escriptive feedback about ONE or TWO of th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write prompts for K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955E-A811-48AE-AE57-588CA2EEC0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H pattern additions to char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3" name="Content Placeholder 4" descr="Screen shot 2011-08-10 at 12.18.56 PM.png"/>
          <p:cNvPicPr/>
          <p:nvPr/>
        </p:nvPicPr>
        <p:blipFill>
          <a:blip r:embed="rId1"/>
          <a:srcRect l="18346" t="0" r="18346" b="0"/>
          <a:stretch/>
        </p:blipFill>
        <p:spPr>
          <a:xfrm>
            <a:off x="1523880" y="137160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1635-3D36-4B7C-B544-4DEB5880A3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1"/>
          <p:cNvGrpSpPr/>
          <p:nvPr/>
        </p:nvGrpSpPr>
        <p:grpSpPr>
          <a:xfrm>
            <a:off x="1905120" y="2133720"/>
            <a:ext cx="5486400" cy="2974320"/>
            <a:chOff x="1905120" y="2133720"/>
            <a:chExt cx="5486400" cy="2974320"/>
          </a:xfrm>
        </p:grpSpPr>
        <p:sp>
          <p:nvSpPr>
            <p:cNvPr id="136" name="TextBox 5"/>
            <p:cNvSpPr/>
            <p:nvPr/>
          </p:nvSpPr>
          <p:spPr>
            <a:xfrm>
              <a:off x="1905120" y="213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eat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6"/>
            <p:cNvSpPr/>
            <p:nvPr/>
          </p:nvSpPr>
          <p:spPr>
            <a:xfrm>
              <a:off x="5639040" y="21337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Patter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0"/>
            <p:cNvGrpSpPr/>
            <p:nvPr/>
          </p:nvGrpSpPr>
          <p:grpSpPr>
            <a:xfrm>
              <a:off x="3581280" y="4496400"/>
              <a:ext cx="1981080" cy="611640"/>
              <a:chOff x="3581280" y="4496400"/>
              <a:chExt cx="1981080" cy="611640"/>
            </a:xfrm>
          </p:grpSpPr>
          <p:sp>
            <p:nvSpPr>
              <p:cNvPr id="139" name="TextBox 7"/>
              <p:cNvSpPr/>
              <p:nvPr/>
            </p:nvSpPr>
            <p:spPr>
              <a:xfrm>
                <a:off x="3581280" y="4648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nnect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0" name="Straight Arrow Connector 9"/>
              <p:cNvCxnSpPr/>
              <p:nvPr/>
            </p:nvCxnSpPr>
            <p:spPr>
              <a:xfrm>
                <a:off x="3733200" y="4496400"/>
                <a:ext cx="1600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</p:grpSp>
      </p:grpSp>
      <p:sp>
        <p:nvSpPr>
          <p:cNvPr id="141" name="TextBox 12"/>
          <p:cNvSpPr/>
          <p:nvPr/>
        </p:nvSpPr>
        <p:spPr>
          <a:xfrm>
            <a:off x="7551720" y="2209680"/>
            <a:ext cx="5461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4"/>
          <p:cNvCxnSpPr/>
          <p:nvPr/>
        </p:nvCxnSpPr>
        <p:spPr>
          <a:xfrm flipH="1">
            <a:off x="1142640" y="2438280"/>
            <a:ext cx="2160" cy="320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escriptive feedback about what you learn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comment on content an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B700-430A-4E33-B932-5D97B89935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position cards and working ma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attern that repres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 to one manipulative, in two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Right Number of Elepha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F220-5F2E-4571-ACC0-C1259570DA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66688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Sheppard and Felicia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33520" y="3048120"/>
            <a:ext cx="8076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m counted 10 trunks. How many legs would there be on the elephants belonging to those 10 tru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ining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 at a table with another pair of 12:00 partners so there are 4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se the samples of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1 sample that the 4 of you want to tal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67F2-32BC-49D0-88E2-DCE39691B6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ages in Development of Multiplicative Think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B2FE-6698-4355-B9B4-42D456A4DA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Screen shot 2011-08-10 at 1.03.53 PM.png"/>
          <p:cNvPicPr/>
          <p:nvPr/>
        </p:nvPicPr>
        <p:blipFill>
          <a:blip r:embed="rId1"/>
          <a:stretch/>
        </p:blipFill>
        <p:spPr>
          <a:xfrm>
            <a:off x="380880" y="1600200"/>
            <a:ext cx="8077320" cy="264636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4" descr="Screen shot 2011-08-09 at 5.41.55 AM.png"/>
          <p:cNvPicPr/>
          <p:nvPr/>
        </p:nvPicPr>
        <p:blipFill>
          <a:blip r:embed="rId2"/>
          <a:srcRect l="0" t="134" r="0" b="134"/>
          <a:stretch/>
        </p:blipFill>
        <p:spPr>
          <a:xfrm>
            <a:off x="380880" y="388620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(in the moment) to Mathematical Cont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stages of development of 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(as a table of 4) where your                     work sample “fits” the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your 1 student sample write                descriptive feedback on a sticky                       note focusing o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ent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athematical thinking you are seeing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your descriptive feedback on the wall on the sample of stud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D8DC-2A92-4CD7-B99B-F1D2BFB232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efore Brea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lean up your tabl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any student samples not used, in the middle of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break – please wander through th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escriptive Feedback Galler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e ready to comment on what you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3E61-E705-4E9E-93F0-C5A3AFB032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686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… over ti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137C-5D4C-4F68-9D77-9B91389457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066680" y="22096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105520" y="22096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105520" y="32767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219320" y="327672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f7aa"/>
                </a:solidFill>
                <a:latin typeface="Arial"/>
              </a:rPr>
              <a:t>Ref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5105520" y="457200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soning and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90720" y="457200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lecting tools and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3124080" y="137160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pres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"/>
                            </p:stCondLst>
                            <p:childTnLst>
                              <p:par>
                                <p:cTn id="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00"/>
                            </p:stCondLst>
                            <p:childTnLst>
                              <p:par>
                                <p:cTn id="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100"/>
                            </p:stCondLst>
                            <p:childTnLst>
                              <p:par>
                                <p:cTn id="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Right Number of Elephan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3267-D08E-4262-B382-72F70357F0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66688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Sheppard and Felicia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685800" y="2895480"/>
            <a:ext cx="80773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m counted 10 trunks. How many legs would there be on the elephants belonging to those 10 tru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6:52:32Z</dcterms:created>
  <dc:creator>CSC</dc:creator>
  <dc:description/>
  <cp:keywords/>
  <dc:language>en-US</dc:language>
  <cp:lastModifiedBy>Computer Services</cp:lastModifiedBy>
  <dcterms:modified xsi:type="dcterms:W3CDTF">2011-08-19T00:10:53Z</dcterms:modified>
  <cp:revision>42</cp:revision>
  <dc:subject/>
  <dc:title>&lt;Title&gt;</dc:title>
</cp:coreProperties>
</file>